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039-1F1F-4C6A-BFD7-A33CCFFF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986-4E9E-4175-B654-4BDC91D0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3DF-CACB-4B52-BEE5-F460E0D3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3D1-ABE0-4B52-9588-CA32D002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B51-36DD-4CAC-B8CA-9BF6A0C6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CDF-2E92-48A1-853A-943C872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282-F4AC-4F83-9401-C10619D0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EE6-B896-43C4-B945-E48FBBBB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B76-6459-4C8A-834D-AFE501AE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C3A-712E-4F13-A445-2A3C029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EA0-563C-469F-8077-552B66DE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9E4-EC58-4E05-9D6F-B12ECE78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244920"/>
            <a:ext cx="571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38C1-9A4E-4111-8DB5-1BA954E0B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000000"/>
                </a:solidFill>
                <a:latin typeface="Arial"/>
              </a:rPr>
              <a:t>Les rô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000000"/>
                </a:solidFill>
                <a:latin typeface="Arial"/>
              </a:rPr>
              <a:t>ave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STI - Département Programmation : BDDII - Les rôles avec Orac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876-6BBE-4DD8-AF98-5BFA9B6387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Utilisa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Quand on crée un utilisateur sous oracle, on précise son nom, son mot de passe et son espace logique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REATE USER nomUser IDENTIFIED BY motDePasse DEFAULT TABLESPACE us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sa création, un utilisateur ne peut rien faire, il n’a aucun </a:t>
            </a:r>
            <a:r>
              <a:rPr b="1" lang="fr-FR" sz="3200" spc="-1" strike="noStrike">
                <a:solidFill>
                  <a:srgbClr val="009900"/>
                </a:solidFill>
                <a:latin typeface="Arial"/>
              </a:rPr>
              <a:t>rôl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STI - Département Programmation : BDDII - Les rôles avec Orac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4A9-848C-4297-AC7C-E6FB1CB79A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Le concept de rô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 rôle est un ensemble nommé de privilèges. Un privilège est la possibilité d’exécuter une action sur la base de donné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 rôle peut être attribué à des utilisateurs ou à d’autres rô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STI - Département Programmation : BDDII - Les rôles avec Orac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9B2-8476-4E61-B8F8-212401FB5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Le concept de rô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 sa création un rôle est v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n attribue des privilèges ou des rôles à un rôle avec l’instruction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GRANT privilege | role TO rol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n retire des privilèges ou des rôles d’un rôle avec l’instruction rev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REVOKE privilege | role FROM rol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STI - Département Programmation : BDDII - Les rôles avec Orac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C80-615A-490D-AF89-FB7E631ED8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Rôle d’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 rôle peut être associé  à un package. On dit alors que c’est une rôle d’applic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 tel rôle est automatiquement activé lors de l’exécution d’un élément du pack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’est l’unique façon de l’activ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STI - Département Programmation : BDDII - Les rôles avec Orac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D59-E019-4094-892B-C53AA58B74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ôle utilisat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s autres rôles sont appelés rôles utilisat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Un tel rôle peut être protégé par un mot de p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REATE ROLE nomRole [NOT IDENTIFIED|IDENTIFIED {by mot_de_passe}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Un rôle protégé doit être activé par l’ordr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SET ROLE nomRole IDENTIFIED BY mot_de_pas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STI - Département Programmation : BDDII - Les rôles avec Orac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85F-5FC5-4323-A970-2392648322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L/SQL : Les rô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Create USER U_dev identified by motdepas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CREATE ROLE R_dev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GRANT CONNECT,RESOURCE to R_dev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GRANT R_dev to U_dev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STI - Département Programmation : BDDII - Les rôles avec Orac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C33-0C7D-4207-9A2D-C763EB7D14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L/SQL : Les rô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mple de rôle définis par ORAC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NECT (CREATE session,create cluster,create view,create table,create sequence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SOURCE (CREATE cluster, CREATE procedure,create sequence,create table,create trigg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BA tous les privilè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STI - Département Programmation : BDDII - Les rôles avec Orac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B5A-22AA-4D0B-AF84-7A71C157E8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2:16:09Z</dcterms:created>
  <dc:creator>jb</dc:creator>
  <dc:description/>
  <dc:language>en-US</dc:language>
  <cp:lastModifiedBy>hdm</cp:lastModifiedBy>
  <dcterms:modified xsi:type="dcterms:W3CDTF">2008-01-20T17:49:28Z</dcterms:modified>
  <cp:revision>30</cp:revision>
  <dc:subject/>
  <dc:title>Base de données II</dc:title>
</cp:coreProperties>
</file>