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0F9-A26E-4366-8444-1DFFF1A6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03D-C843-407D-84BC-1FE87948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BAF-3997-4139-838C-D13EA0B3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9491-849A-468F-8569-57655F78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B8E-C0BD-4412-8F15-72A8F407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2F7-DF01-46A9-8D87-FC9B024F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178-D98E-439E-9928-3F75C314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8DD7-2AE2-444F-9F99-18BF44F4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AD48-8F84-4BE9-BD0F-5645A665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246-23FA-43FC-8894-EAD54FB8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5044-FF38-400F-8524-346CB356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73B-B20B-4067-B716-9716F6A3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BA5B-C723-4313-A479-EC29C3A98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38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rganisation et Fonctionnement de l'Entreprise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Séance N°1)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"Mesurer la performance de l'entreprise"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218120" y="1352520"/>
            <a:ext cx="1336680" cy="580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41560" y="1351080"/>
            <a:ext cx="80244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h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515280" y="1352520"/>
            <a:ext cx="145080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71800" y="576360"/>
            <a:ext cx="203040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irection génér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35040" y="1352520"/>
            <a:ext cx="813240" cy="580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 &amp; 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u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31600" y="1363680"/>
            <a:ext cx="110736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gis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4520" y="1044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4600" y="9302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97600" y="10699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29520" y="1044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677440" y="1031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7840" y="10317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63520" y="1044360"/>
            <a:ext cx="8447040" cy="4577040"/>
            <a:chOff x="263520" y="1044360"/>
            <a:chExt cx="8447040" cy="4577040"/>
          </a:xfrm>
        </p:grpSpPr>
        <p:sp>
          <p:nvSpPr>
            <p:cNvPr id="55" name=""/>
            <p:cNvSpPr/>
            <p:nvPr/>
          </p:nvSpPr>
          <p:spPr>
            <a:xfrm flipV="1">
              <a:off x="276120" y="1044360"/>
              <a:ext cx="843444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3520" y="1071720"/>
              <a:ext cx="23760" cy="45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134440" y="1352520"/>
            <a:ext cx="112860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rke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5520" y="-360"/>
            <a:ext cx="898848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fonctions </a:t>
            </a:r>
            <a:r>
              <a:rPr b="1" lang="fr-FR" sz="2000" spc="-1" strike="noStrike">
                <a:solidFill>
                  <a:srgbClr val="669900"/>
                </a:solidFill>
                <a:latin typeface="Arial"/>
              </a:rPr>
              <a:t>principal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2000" spc="-1" strike="noStrike">
                <a:solidFill>
                  <a:srgbClr val="bbe0e3"/>
                </a:solidFill>
                <a:latin typeface="Arial"/>
              </a:rPr>
              <a:t>auxiliair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fr-FR" sz="2000" spc="-1" strike="noStrike">
                <a:solidFill>
                  <a:srgbClr val="ff3300"/>
                </a:solidFill>
                <a:latin typeface="Arial"/>
              </a:rPr>
              <a:t>transversa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entrep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1600" y="2109960"/>
            <a:ext cx="1175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Arial"/>
              </a:rPr>
              <a:t>Princip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61720" y="1044720"/>
            <a:ext cx="8469360" cy="4806720"/>
            <a:chOff x="261720" y="1044720"/>
            <a:chExt cx="8469360" cy="4806720"/>
          </a:xfrm>
        </p:grpSpPr>
        <p:sp>
          <p:nvSpPr>
            <p:cNvPr id="61" name=""/>
            <p:cNvSpPr/>
            <p:nvPr/>
          </p:nvSpPr>
          <p:spPr>
            <a:xfrm>
              <a:off x="1625760" y="1519200"/>
              <a:ext cx="7105320" cy="38894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30360" y="2016000"/>
              <a:ext cx="6934320" cy="38354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27360" y="1960560"/>
              <a:ext cx="823680" cy="5806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Qualit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D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24840" y="1338120"/>
              <a:ext cx="1130040" cy="5806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Proj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Process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7280" y="234144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14520" y="104472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1720" y="2486160"/>
              <a:ext cx="187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*DD : Développement Dura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7893200">
              <a:off x="4697280" y="3485520"/>
              <a:ext cx="14562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0000"/>
                  </a:solidFill>
                  <a:latin typeface="Arial"/>
                </a:rPr>
                <a:t>Transvers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910800" y="1690560"/>
            <a:ext cx="8074440" cy="4552200"/>
            <a:chOff x="910800" y="1690560"/>
            <a:chExt cx="8074440" cy="4552200"/>
          </a:xfrm>
        </p:grpSpPr>
        <p:grpSp>
          <p:nvGrpSpPr>
            <p:cNvPr id="70" name=""/>
            <p:cNvGrpSpPr/>
            <p:nvPr/>
          </p:nvGrpSpPr>
          <p:grpSpPr>
            <a:xfrm>
              <a:off x="1417680" y="1690560"/>
              <a:ext cx="7567560" cy="4281480"/>
              <a:chOff x="1417680" y="1690560"/>
              <a:chExt cx="7567560" cy="4281480"/>
            </a:xfrm>
          </p:grpSpPr>
          <p:sp>
            <p:nvSpPr>
              <p:cNvPr id="71" name=""/>
              <p:cNvSpPr/>
              <p:nvPr/>
            </p:nvSpPr>
            <p:spPr>
              <a:xfrm>
                <a:off x="1709640" y="3460680"/>
                <a:ext cx="727092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14680" y="4384800"/>
                <a:ext cx="7253280" cy="3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39880" y="5556240"/>
                <a:ext cx="718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075040" y="2638440"/>
                <a:ext cx="6910200" cy="333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17680" y="2919240"/>
                <a:ext cx="753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88080" y="1979640"/>
                <a:ext cx="0" cy="392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992920" y="1690560"/>
                <a:ext cx="27000" cy="417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294680" y="1712880"/>
                <a:ext cx="25200" cy="420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934240" y="2787480"/>
                <a:ext cx="215640" cy="21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203960" y="2787480"/>
                <a:ext cx="216000" cy="21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791240" y="2787480"/>
                <a:ext cx="215640" cy="21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91240" y="3359160"/>
                <a:ext cx="215640" cy="21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934240" y="3359160"/>
                <a:ext cx="215640" cy="21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203960" y="3359160"/>
                <a:ext cx="216000" cy="21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791240" y="4299120"/>
                <a:ext cx="215640" cy="21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34240" y="4299120"/>
                <a:ext cx="215640" cy="21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03960" y="4299120"/>
                <a:ext cx="216000" cy="21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666280" y="1738440"/>
                <a:ext cx="0" cy="418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575560" y="2787480"/>
                <a:ext cx="216000" cy="21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575560" y="3359160"/>
                <a:ext cx="216000" cy="21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575560" y="4299120"/>
                <a:ext cx="216000" cy="21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630600" y="2009880"/>
                <a:ext cx="0" cy="391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533760" y="2787480"/>
                <a:ext cx="216000" cy="21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533760" y="3359160"/>
                <a:ext cx="216000" cy="21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533760" y="4299120"/>
                <a:ext cx="216000" cy="21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533760" y="5429160"/>
                <a:ext cx="216000" cy="21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791240" y="5429160"/>
                <a:ext cx="215640" cy="21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934240" y="5429160"/>
                <a:ext cx="215640" cy="21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03960" y="5429160"/>
                <a:ext cx="216000" cy="21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575560" y="5429160"/>
                <a:ext cx="216000" cy="21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550960" y="1717560"/>
                <a:ext cx="0" cy="421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54120" y="2787480"/>
                <a:ext cx="216000" cy="21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454120" y="3359160"/>
                <a:ext cx="216000" cy="21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54120" y="4299120"/>
                <a:ext cx="216000" cy="21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454120" y="5429160"/>
                <a:ext cx="216000" cy="21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910800" y="5905440"/>
              <a:ext cx="777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es fonctions principales ont toutes besoin des fonctions auxiliaires et transversal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12840" y="2708280"/>
            <a:ext cx="2113560" cy="3198960"/>
            <a:chOff x="312840" y="2708280"/>
            <a:chExt cx="2113560" cy="3198960"/>
          </a:xfrm>
        </p:grpSpPr>
        <p:sp>
          <p:nvSpPr>
            <p:cNvPr id="108" name=""/>
            <p:cNvSpPr/>
            <p:nvPr/>
          </p:nvSpPr>
          <p:spPr>
            <a:xfrm>
              <a:off x="519120" y="3849840"/>
              <a:ext cx="1557360" cy="1067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Finance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omptabilité, Contrôle de ges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9120" y="3156120"/>
              <a:ext cx="1554120" cy="580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Ressources humai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0800" y="2708280"/>
              <a:ext cx="1527120" cy="337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Jurid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9360" y="5083200"/>
              <a:ext cx="1517400" cy="824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Système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raitement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'inform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2840" y="29019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2840" y="34988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840" y="5619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12840" y="459108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1703160" y="4238280"/>
              <a:ext cx="1108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333399"/>
                  </a:solidFill>
                  <a:latin typeface="Arial"/>
                </a:rPr>
                <a:t>Auxiliai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2745000" y="2932200"/>
            <a:ext cx="5954400" cy="3252960"/>
            <a:chOff x="2745000" y="2932200"/>
            <a:chExt cx="5954400" cy="3252960"/>
          </a:xfrm>
        </p:grpSpPr>
        <p:sp>
          <p:nvSpPr>
            <p:cNvPr id="118" name=""/>
            <p:cNvSpPr/>
            <p:nvPr/>
          </p:nvSpPr>
          <p:spPr>
            <a:xfrm>
              <a:off x="7340760" y="4444920"/>
              <a:ext cx="1218960" cy="12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23160" y="48769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5000" y="48769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56040" y="5726160"/>
              <a:ext cx="80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Contrô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de g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289320" y="4432320"/>
              <a:ext cx="3200400" cy="1608480"/>
              <a:chOff x="3289320" y="4432320"/>
              <a:chExt cx="3200400" cy="1608480"/>
            </a:xfrm>
          </p:grpSpPr>
          <p:sp>
            <p:nvSpPr>
              <p:cNvPr id="123" name=""/>
              <p:cNvSpPr/>
              <p:nvPr/>
            </p:nvSpPr>
            <p:spPr>
              <a:xfrm>
                <a:off x="3289320" y="4432320"/>
                <a:ext cx="1219320" cy="1219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80040" y="4432320"/>
                <a:ext cx="1218960" cy="1219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270400" y="4432320"/>
                <a:ext cx="1219320" cy="1219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247000" y="48769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243680" y="48643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04240" y="5764320"/>
                <a:ext cx="849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roduc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96840" y="5764320"/>
                <a:ext cx="60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Acha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61920" y="5751720"/>
                <a:ext cx="933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Commerci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3631320" y="4748400"/>
                <a:ext cx="436680" cy="548280"/>
                <a:chOff x="3631320" y="4748400"/>
                <a:chExt cx="436680" cy="5482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631320" y="4748400"/>
                  <a:ext cx="43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V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655800" y="498960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657240" y="5016600"/>
                  <a:ext cx="355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94600" y="4761000"/>
                <a:ext cx="782640" cy="535680"/>
                <a:chOff x="4494600" y="4761000"/>
                <a:chExt cx="782640" cy="5356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659480" y="4989600"/>
                  <a:ext cx="43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V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94600" y="4761000"/>
                  <a:ext cx="782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CONS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559040" y="5016600"/>
                  <a:ext cx="63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5586840" y="4735440"/>
                <a:ext cx="782640" cy="561240"/>
                <a:chOff x="5586840" y="4735440"/>
                <a:chExt cx="782640" cy="5612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726160" y="4735440"/>
                  <a:ext cx="42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586840" y="4989600"/>
                  <a:ext cx="782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CONS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663880" y="5004000"/>
                  <a:ext cx="571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7732800" y="4773600"/>
              <a:ext cx="440640" cy="523080"/>
              <a:chOff x="7732800" y="4773600"/>
              <a:chExt cx="440640" cy="523080"/>
            </a:xfrm>
          </p:grpSpPr>
          <p:sp>
            <p:nvSpPr>
              <p:cNvPr id="144" name=""/>
              <p:cNvSpPr/>
              <p:nvPr/>
            </p:nvSpPr>
            <p:spPr>
              <a:xfrm>
                <a:off x="7745760" y="477360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B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732800" y="498960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72400" y="502920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16200000">
              <a:off x="4867920" y="2307240"/>
              <a:ext cx="131760" cy="4000680"/>
            </a:xfrm>
            <a:custGeom>
              <a:avLst/>
              <a:gdLst>
                <a:gd name="textAreaLeft" fmla="*/ 0 w 131760"/>
                <a:gd name="textAreaRight" fmla="*/ 47520 w 131760"/>
                <a:gd name="textAreaTop" fmla="*/ 104040 h 4000680"/>
                <a:gd name="textAreaBottom" fmla="*/ 3896640 h 400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6200000">
              <a:off x="7949880" y="3631680"/>
              <a:ext cx="88920" cy="140976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36720 h 1409760"/>
                <a:gd name="textAreaBottom" fmla="*/ 1373040 h 14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66000" y="3948120"/>
              <a:ext cx="134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CROISS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42000" y="3986280"/>
              <a:ext cx="8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PROF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647240" y="3365640"/>
              <a:ext cx="509760" cy="635040"/>
              <a:chOff x="4647240" y="3365640"/>
              <a:chExt cx="509760" cy="635040"/>
            </a:xfrm>
          </p:grpSpPr>
          <p:sp>
            <p:nvSpPr>
              <p:cNvPr id="152" name=""/>
              <p:cNvSpPr/>
              <p:nvPr/>
            </p:nvSpPr>
            <p:spPr>
              <a:xfrm>
                <a:off x="4710240" y="36324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47240" y="33656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673520" y="3683160"/>
                <a:ext cx="40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7695360" y="3352680"/>
              <a:ext cx="522720" cy="635040"/>
              <a:chOff x="7695360" y="3352680"/>
              <a:chExt cx="522720" cy="635040"/>
            </a:xfrm>
          </p:grpSpPr>
          <p:sp>
            <p:nvSpPr>
              <p:cNvPr id="156" name=""/>
              <p:cNvSpPr/>
              <p:nvPr/>
            </p:nvSpPr>
            <p:spPr>
              <a:xfrm>
                <a:off x="7695360" y="36194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20200" y="335268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B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747200" y="3670200"/>
                <a:ext cx="40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4210560" y="2944800"/>
              <a:ext cx="1409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Taux de rot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de l’act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35360" y="2932200"/>
              <a:ext cx="125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Taux de Profi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ur V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81480" y="3581280"/>
              <a:ext cx="87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743880" y="36068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37360" y="34290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6388200" y="293328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985760" y="1839960"/>
            <a:ext cx="2681640" cy="1550880"/>
            <a:chOff x="1985760" y="1839960"/>
            <a:chExt cx="2681640" cy="1550880"/>
          </a:xfrm>
        </p:grpSpPr>
        <p:sp>
          <p:nvSpPr>
            <p:cNvPr id="166" name=""/>
            <p:cNvSpPr/>
            <p:nvPr/>
          </p:nvSpPr>
          <p:spPr>
            <a:xfrm>
              <a:off x="2692440" y="2171880"/>
              <a:ext cx="1219320" cy="121896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5760" y="1839960"/>
              <a:ext cx="26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Taux de rentabilité financière R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2792520" y="2400480"/>
              <a:ext cx="955080" cy="609120"/>
              <a:chOff x="2792520" y="2400480"/>
              <a:chExt cx="955080" cy="60912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3249360" y="2400480"/>
                <a:ext cx="498240" cy="609120"/>
                <a:chOff x="3249360" y="2400480"/>
                <a:chExt cx="498240" cy="6091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249360" y="2641320"/>
                  <a:ext cx="48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Times New Roman"/>
                    </a:rPr>
                    <a:t>C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249720" y="2400480"/>
                  <a:ext cx="497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Times New Roman"/>
                    </a:rPr>
                    <a:t>B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314520" y="2717640"/>
                  <a:ext cx="36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2792520" y="252720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Rf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2941560" y="2881440"/>
              <a:ext cx="75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Dir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génér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102200" y="2017800"/>
            <a:ext cx="3083040" cy="1004760"/>
            <a:chOff x="4102200" y="2017800"/>
            <a:chExt cx="3083040" cy="1004760"/>
          </a:xfrm>
        </p:grpSpPr>
        <p:grpSp>
          <p:nvGrpSpPr>
            <p:cNvPr id="176" name=""/>
            <p:cNvGrpSpPr/>
            <p:nvPr/>
          </p:nvGrpSpPr>
          <p:grpSpPr>
            <a:xfrm>
              <a:off x="5877000" y="2413080"/>
              <a:ext cx="995040" cy="609480"/>
              <a:chOff x="5877000" y="2413080"/>
              <a:chExt cx="995040" cy="60948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6374160" y="2413080"/>
                <a:ext cx="497880" cy="609480"/>
                <a:chOff x="6374160" y="2413080"/>
                <a:chExt cx="497880" cy="6094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374160" y="2413080"/>
                  <a:ext cx="497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Times New Roman"/>
                    </a:rPr>
                    <a:t>B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437520" y="265428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438960" y="2730600"/>
                  <a:ext cx="35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5877000" y="2538360"/>
                <a:ext cx="65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Re =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5607000" y="2017800"/>
              <a:ext cx="1578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Taux de rentabil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conomique 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102200" y="2781360"/>
              <a:ext cx="168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80880" y="2781360"/>
            <a:ext cx="2210040" cy="3522600"/>
            <a:chOff x="380880" y="2781360"/>
            <a:chExt cx="2210040" cy="3522600"/>
          </a:xfrm>
        </p:grpSpPr>
        <p:sp>
          <p:nvSpPr>
            <p:cNvPr id="185" name=""/>
            <p:cNvSpPr/>
            <p:nvPr/>
          </p:nvSpPr>
          <p:spPr>
            <a:xfrm>
              <a:off x="380880" y="4444920"/>
              <a:ext cx="1219320" cy="12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71600" y="4444920"/>
              <a:ext cx="1219320" cy="12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47840" y="4902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7280" y="5738760"/>
              <a:ext cx="66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Fin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19120" y="5662440"/>
              <a:ext cx="1171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Marke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Etudes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R &amp;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734760" y="4748040"/>
              <a:ext cx="398520" cy="561240"/>
              <a:chOff x="734760" y="4748040"/>
              <a:chExt cx="398520" cy="561240"/>
            </a:xfrm>
          </p:grpSpPr>
          <p:sp>
            <p:nvSpPr>
              <p:cNvPr id="191" name=""/>
              <p:cNvSpPr/>
              <p:nvPr/>
            </p:nvSpPr>
            <p:spPr>
              <a:xfrm>
                <a:off x="785880" y="474804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4760" y="5002200"/>
                <a:ext cx="39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C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25120" y="5016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1839960" y="4748040"/>
              <a:ext cx="321480" cy="548280"/>
              <a:chOff x="1839960" y="4748040"/>
              <a:chExt cx="321480" cy="548280"/>
            </a:xfrm>
          </p:grpSpPr>
          <p:sp>
            <p:nvSpPr>
              <p:cNvPr id="195" name=""/>
              <p:cNvSpPr/>
              <p:nvPr/>
            </p:nvSpPr>
            <p:spPr>
              <a:xfrm>
                <a:off x="1852560" y="474804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839960" y="498924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892160" y="501624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rot="16200000">
              <a:off x="1447920" y="3504960"/>
              <a:ext cx="88920" cy="163836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42480 h 1638360"/>
                <a:gd name="textAreaBottom" fmla="*/ 1595880 h 163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64440" y="3973680"/>
              <a:ext cx="109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SECUR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230120" y="3378240"/>
              <a:ext cx="485640" cy="660600"/>
              <a:chOff x="1230120" y="3378240"/>
              <a:chExt cx="485640" cy="660600"/>
            </a:xfrm>
          </p:grpSpPr>
          <p:sp>
            <p:nvSpPr>
              <p:cNvPr id="201" name=""/>
              <p:cNvSpPr/>
              <p:nvPr/>
            </p:nvSpPr>
            <p:spPr>
              <a:xfrm>
                <a:off x="1230120" y="3670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C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3840" y="3378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82680" y="3708720"/>
                <a:ext cx="36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666720" y="2970360"/>
              <a:ext cx="1727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Taux d’indépend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financiè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47920" y="2781360"/>
              <a:ext cx="1041120" cy="190440"/>
            </a:xfrm>
            <a:custGeom>
              <a:avLst/>
              <a:gdLst/>
              <a:ahLst/>
              <a:rect l="l" t="t" r="r" b="b"/>
              <a:pathLst>
                <a:path w="656" h="120">
                  <a:moveTo>
                    <a:pt x="0" y="120"/>
                  </a:moveTo>
                  <a:lnTo>
                    <a:pt x="0" y="0"/>
                  </a:lnTo>
                  <a:lnTo>
                    <a:pt x="65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81040" y="735120"/>
            <a:ext cx="5730840" cy="1055520"/>
            <a:chOff x="581040" y="735120"/>
            <a:chExt cx="5730840" cy="1055520"/>
          </a:xfrm>
        </p:grpSpPr>
        <p:sp>
          <p:nvSpPr>
            <p:cNvPr id="207" name=""/>
            <p:cNvSpPr/>
            <p:nvPr/>
          </p:nvSpPr>
          <p:spPr>
            <a:xfrm>
              <a:off x="581040" y="1155600"/>
              <a:ext cx="166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Ra = (1-p).R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29080" y="1155600"/>
              <a:ext cx="188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Rc = p.R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59600" y="900000"/>
              <a:ext cx="144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Taux de réten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8560" y="747720"/>
              <a:ext cx="1578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Taux de rentabil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de l’actionnaire 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26120" y="735120"/>
              <a:ext cx="1552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Taux de croiss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du capital R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323800" y="1346040"/>
              <a:ext cx="71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43480" y="1346040"/>
              <a:ext cx="74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251160" y="14860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99880" y="6281640"/>
            <a:ext cx="832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95120" y="6237360"/>
            <a:ext cx="315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ssources humaines, Projets, Qualité, Jurid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ystèmes de Traitement de l'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8280" y="210960"/>
            <a:ext cx="8229600" cy="3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performance globale de l’entreprise et la synergie des fo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quation de performance financière : Rc = p.Rf = p (BN/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70000" y="652320"/>
            <a:ext cx="8653680" cy="5771880"/>
            <a:chOff x="270000" y="652320"/>
            <a:chExt cx="8653680" cy="5771880"/>
          </a:xfrm>
        </p:grpSpPr>
        <p:sp>
          <p:nvSpPr>
            <p:cNvPr id="220" name=""/>
            <p:cNvSpPr/>
            <p:nvPr/>
          </p:nvSpPr>
          <p:spPr>
            <a:xfrm>
              <a:off x="519480" y="652320"/>
              <a:ext cx="744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3 niveaux de Rf = BN/CP selon le niveau de BN (BN3, BN2 ou BN1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9600" y="2887560"/>
              <a:ext cx="383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'où :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BN1 = (1 – t). [Re3(CP + D) – iD]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270000" y="3595680"/>
              <a:ext cx="8653680" cy="2828520"/>
              <a:chOff x="270000" y="3595680"/>
              <a:chExt cx="8653680" cy="2828520"/>
            </a:xfrm>
          </p:grpSpPr>
          <p:sp>
            <p:nvSpPr>
              <p:cNvPr id="223" name=""/>
              <p:cNvSpPr/>
              <p:nvPr/>
            </p:nvSpPr>
            <p:spPr>
              <a:xfrm>
                <a:off x="1274760" y="42400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964520" y="4240080"/>
                <a:ext cx="70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(1 – 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819520" y="4240080"/>
                <a:ext cx="31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(Produits – Charges avant FF) /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299640" y="4240080"/>
                <a:ext cx="114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(1 + D/CP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13160" y="4240080"/>
                <a:ext cx="76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i.D/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625400" y="424008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604960" y="424008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989320" y="424008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525440" y="424008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24440" y="4240080"/>
                <a:ext cx="660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Rc =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4384440" y="3595680"/>
                <a:ext cx="487080" cy="48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5400000">
                <a:off x="4364640" y="2712240"/>
                <a:ext cx="88920" cy="2893680"/>
              </a:xfrm>
              <a:custGeom>
                <a:avLst/>
                <a:gdLst>
                  <a:gd name="textAreaLeft" fmla="*/ 56880 w 88920"/>
                  <a:gd name="textAreaRight" fmla="*/ 89280 w 88920"/>
                  <a:gd name="textAreaTop" fmla="*/ 75240 h 2893680"/>
                  <a:gd name="textAreaBottom" fmla="*/ 2818440 h 289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70000" y="5038560"/>
                <a:ext cx="1243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Politique 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dividend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876320" y="4927680"/>
                <a:ext cx="960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Politiqu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fisca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de l'Et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060600" y="4778280"/>
                <a:ext cx="1558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Levier financi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si Re3 &gt; 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62040" y="4778280"/>
                <a:ext cx="1061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Politiqu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financiè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100320" y="6081840"/>
                <a:ext cx="207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Leviers d'exploit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07720" y="5843520"/>
                <a:ext cx="1572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Levi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immobilis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01520" y="4815000"/>
                <a:ext cx="126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Commerci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193640" y="4667400"/>
                <a:ext cx="115164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Etud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Produ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Acha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R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Stock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6200000">
                <a:off x="4095000" y="4861800"/>
                <a:ext cx="164880" cy="2379600"/>
              </a:xfrm>
              <a:custGeom>
                <a:avLst/>
                <a:gdLst>
                  <a:gd name="textAreaLeft" fmla="*/ 105480 w 164880"/>
                  <a:gd name="textAreaRight" fmla="*/ 165240 w 164880"/>
                  <a:gd name="textAreaTop" fmla="*/ 61920 h 2379600"/>
                  <a:gd name="textAreaBottom" fmla="*/ 2317680 h 237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888840" y="4546440"/>
                <a:ext cx="43848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flipV="1">
                <a:off x="2292120" y="4521240"/>
                <a:ext cx="5076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3381480" y="457200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4822920" y="45334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5824440" y="4521240"/>
                <a:ext cx="425520" cy="137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902280" y="4559040"/>
                <a:ext cx="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8329680" y="4559040"/>
                <a:ext cx="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1464840" y="3683160"/>
                <a:ext cx="2141640" cy="62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330280" y="3670200"/>
                <a:ext cx="1803600" cy="6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73680" y="3645000"/>
                <a:ext cx="1052640" cy="60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977160" y="3657600"/>
                <a:ext cx="1252440" cy="61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73400" y="3263760"/>
              <a:ext cx="695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c = p.Rf1 = p.BN1/CP = p.(1 – t).[Re3.(1+D/CP) – i.D/CP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6640" y="1023840"/>
              <a:ext cx="77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BN3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= Produits – Charges avant FF, avec FF = iD et i = taux moyen d'intérêts sur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5920" y="1422360"/>
              <a:ext cx="789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BN2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= BN3 – FF = BN3 – iD = Re3 x A – iD = Re3(CP+D) – iD = [D(Re3 – i)+Re3.CP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9080" y="1760400"/>
              <a:ext cx="246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evier financier si Re3 &gt;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5920" y="2055960"/>
              <a:ext cx="835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BN1 = BN2 – IS avec IS = t x BN2 et t = taux d'imposition sur bénéfices = 33%1/3 en 2007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6640" y="2336760"/>
              <a:ext cx="35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BN1 = (1 – t) BN2 = (1 – t).(BN3 – iD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5200" y="2602080"/>
              <a:ext cx="512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Or : BN3/A = Re3 ; A = CP + D </a:t>
              </a:r>
              <a:r>
                <a:rPr b="0" lang="fr-FR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BN3 = Re3.(CP + D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tude de cas : PERFOALCA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426960" y="809640"/>
            <a:ext cx="8657640" cy="5023800"/>
            <a:chOff x="426960" y="809640"/>
            <a:chExt cx="8657640" cy="502380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447840" y="809640"/>
              <a:ext cx="53686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255560" y="2271600"/>
              <a:ext cx="4829040" cy="35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LCATEL a communiqué ses comptes pour l'activité téléph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numérique portable sur le dernier exercic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Les intérêts des dettes D1 de 500.000 € payés sur l'exercice s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de 50.000 €. Le taux d'imposition est de 33%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Q1) Quel est le montant du bénéfice BN1 après impôts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Q2) Quel est le taux Rc de rentabilité du capital dans l'hypothèse o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le taux de rétention p est de 60% ? quel est le taux Ra 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ctionnaires et quel est le montant des dividendes distribués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Construire un tableur EXCEL pour faire le calcu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Q3) Quelle est la valeur du levier financier (1+D/CP)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Q4) Pour quelle valeur de BN3, le levier financier s'annule-t-il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et , dans ce cas, quelle est la nouvelle valeur de la rentabilité Rc 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capitaux propres toutes choses étant égales par ailleurs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Q5) Dans ces conditions, est-il possible de retrouver la valeur du R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précédente en modifiant la valeur de p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Q6) Par ailleurs quel est le montant minimum de la participation 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salariés aux fruits de l'expansion qu'il faut porter au comp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correspondant à partir du bénéfice BN1 calculé en Q1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426960" y="2292480"/>
              <a:ext cx="3606840" cy="222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4600" y="162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oncé : Equation de performance d'ALC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7:09:11Z</dcterms:created>
  <dc:creator>gd</dc:creator>
  <dc:description/>
  <dc:language>en-US</dc:language>
  <cp:lastModifiedBy>gd</cp:lastModifiedBy>
  <dcterms:modified xsi:type="dcterms:W3CDTF">2008-07-29T08:04:58Z</dcterms:modified>
  <cp:revision>8</cp:revision>
  <dc:subject/>
  <dc:title>Performer (Séance N°1)</dc:title>
</cp:coreProperties>
</file>