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340-AE24-419C-B85D-D3DC117D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873-4605-4AAD-863A-7C0A93CA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635-849D-498B-B8B1-DCBFF885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11A-214C-46E6-8EE1-E6E9E509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AF1-34AA-4210-8FAC-5B2179D0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052-B637-4EF9-97A8-8203AC80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8E6-3D4D-4B62-BAB9-EEBEE135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DA5-5D57-40ED-A9A2-44A90BBE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241-2C26-44B5-A9EE-BDC9D678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EC0-A0AF-432C-90DA-721FBDD1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9EA-B2D7-4384-86C2-2DF9E03A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796-3353-4699-8F91-4E0FBED2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EB95-1805-4757-BA9C-DCA51A89C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5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rganisation et Fonctionnement de l'Entrepri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Séance N°5)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"Approvisionner les composants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e de MRP à 4 produits : W, X, Y, Z (1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44600" y="1193760"/>
          <a:ext cx="3276360" cy="906480"/>
        </p:xfrm>
        <a:graphic>
          <a:graphicData uri="http://schemas.openxmlformats.org/drawingml/2006/table">
            <a:tbl>
              <a:tblPr/>
              <a:tblGrid>
                <a:gridCol w="1434960"/>
                <a:gridCol w="432000"/>
                <a:gridCol w="444240"/>
                <a:gridCol w="482760"/>
                <a:gridCol w="482400"/>
              </a:tblGrid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Nov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ov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08960" y="747720"/>
            <a:ext cx="74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P : Commandes fermes des clients et dates de livraison des prod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54040" y="2373480"/>
            <a:ext cx="5708520" cy="3963960"/>
            <a:chOff x="3254040" y="2373480"/>
            <a:chExt cx="5708520" cy="3963960"/>
          </a:xfrm>
        </p:grpSpPr>
        <p:sp>
          <p:nvSpPr>
            <p:cNvPr id="46" name=""/>
            <p:cNvSpPr/>
            <p:nvPr/>
          </p:nvSpPr>
          <p:spPr>
            <a:xfrm>
              <a:off x="4201200" y="2373480"/>
              <a:ext cx="45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menclature arborescente d'un produ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254040" y="2678040"/>
              <a:ext cx="5708520" cy="3239640"/>
              <a:chOff x="3254040" y="2678040"/>
              <a:chExt cx="5708520" cy="3239640"/>
            </a:xfrm>
          </p:grpSpPr>
          <p:sp>
            <p:nvSpPr>
              <p:cNvPr id="48" name=""/>
              <p:cNvSpPr/>
              <p:nvPr/>
            </p:nvSpPr>
            <p:spPr>
              <a:xfrm>
                <a:off x="6201000" y="2895480"/>
                <a:ext cx="6858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515120" y="3554280"/>
                <a:ext cx="4978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93160" y="3528720"/>
                <a:ext cx="4978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007480" y="3528720"/>
                <a:ext cx="4978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867480" y="4240080"/>
                <a:ext cx="6501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M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794480" y="4240080"/>
                <a:ext cx="6501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M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708880" y="4240080"/>
                <a:ext cx="6501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M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559920" y="4240080"/>
                <a:ext cx="6501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M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112000" y="4874760"/>
                <a:ext cx="45972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810400" y="4874760"/>
                <a:ext cx="45972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496200" y="4874760"/>
                <a:ext cx="45972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172400" y="5522760"/>
                <a:ext cx="6501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P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036040" y="5522760"/>
                <a:ext cx="6501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P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924880" y="5522760"/>
                <a:ext cx="6501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P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436160" y="4240080"/>
                <a:ext cx="6501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M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12400" y="4227120"/>
                <a:ext cx="6501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M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727520" y="3416040"/>
                <a:ext cx="353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727520" y="341604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518520" y="340344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58400" y="3416040"/>
                <a:ext cx="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518520" y="3250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168800" y="4089240"/>
                <a:ext cx="9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740480" y="3924000"/>
                <a:ext cx="0" cy="16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68800" y="4089240"/>
                <a:ext cx="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08760" y="4089240"/>
                <a:ext cx="0" cy="12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72400" y="4076280"/>
                <a:ext cx="87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972400" y="4076280"/>
                <a:ext cx="0" cy="16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36040" y="406368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12280" y="40892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232840" y="389844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724880" y="4076280"/>
                <a:ext cx="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626680" y="4089240"/>
                <a:ext cx="0" cy="12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299200" y="4749480"/>
                <a:ext cx="143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23160" y="460980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11800" y="4749480"/>
                <a:ext cx="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6734160" y="4749480"/>
                <a:ext cx="1296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23160" y="474948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473720" y="5384520"/>
                <a:ext cx="18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37360" y="524484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486320" y="538452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337360" y="53971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264360" y="538452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54040" y="26780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iveau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343320" y="3047760"/>
                <a:ext cx="419040" cy="2869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393000" y="3058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393000" y="3566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405600" y="4240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405600" y="4862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93000" y="5522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47080" y="3236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072480" y="3249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218800" y="319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056560" y="3897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00960" y="3897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679000" y="3922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22000" y="3884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31120" y="3911400"/>
                <a:ext cx="0" cy="16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431480" y="3897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25240" y="3871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31360" y="4570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07520" y="4557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09120" y="4544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92920" y="5205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920" y="5205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250320" y="5205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4483080" y="590544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46720" y="59054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61120" y="590544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0720" y="2475000"/>
            <a:ext cx="4810320" cy="4088880"/>
            <a:chOff x="180720" y="2475000"/>
            <a:chExt cx="4810320" cy="4088880"/>
          </a:xfrm>
        </p:grpSpPr>
        <p:sp>
          <p:nvSpPr>
            <p:cNvPr id="117" name=""/>
            <p:cNvSpPr/>
            <p:nvPr/>
          </p:nvSpPr>
          <p:spPr>
            <a:xfrm>
              <a:off x="187200" y="4545000"/>
              <a:ext cx="309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inage des pièces Pi pour obtenir les SMi : 3 j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7200" y="3732120"/>
              <a:ext cx="3086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itements chimiques,Test et assemblage pour obtenir les modules Mi : 4 j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80720" y="2475000"/>
              <a:ext cx="4810320" cy="4088880"/>
              <a:chOff x="180720" y="2475000"/>
              <a:chExt cx="4810320" cy="4088880"/>
            </a:xfrm>
          </p:grpSpPr>
          <p:sp>
            <p:nvSpPr>
              <p:cNvPr id="120" name=""/>
              <p:cNvSpPr/>
              <p:nvPr/>
            </p:nvSpPr>
            <p:spPr>
              <a:xfrm>
                <a:off x="180720" y="6043680"/>
                <a:ext cx="2553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Approvisionnement des MPi 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2 jou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7200" y="5180040"/>
                <a:ext cx="2973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Usinage et assemblage des MPi pour obtenir les Pi : 2 jou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87200" y="3147840"/>
                <a:ext cx="306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ssemblage des Mi pour obtenir le produit W : 2 jou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37040" y="3454560"/>
                <a:ext cx="105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86280" y="4089240"/>
                <a:ext cx="77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86280" y="4788000"/>
                <a:ext cx="19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60720" y="5410080"/>
                <a:ext cx="110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35160" y="6197760"/>
                <a:ext cx="128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2760" y="2475000"/>
                <a:ext cx="219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amme opératoi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 flipV="1">
            <a:off x="179280" y="270792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e de MRP à 4 produits : W, X, Y, Z (2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73520" y="1778040"/>
          <a:ext cx="4038480" cy="136512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79360" y="3784680"/>
          <a:ext cx="4038480" cy="139680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699080" y="3951360"/>
          <a:ext cx="4038480" cy="109188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5258880" y="1052640"/>
            <a:ext cx="29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age intermédiai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enclature niveaux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1040" y="3097080"/>
            <a:ext cx="37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age et assemblage des piè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enclature niveaux 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43600" y="3224160"/>
            <a:ext cx="34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age des matières pre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enclature niveaux 3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4920" y="1805040"/>
          <a:ext cx="4038480" cy="111276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1007640" y="1077840"/>
            <a:ext cx="28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age final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enclature niveaux 0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61240" y="54756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menclatures matricielles des 4 prod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7120" y="5346720"/>
            <a:ext cx="738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ien faut-il de MP1, MP2 et MP3 pour pouvoir fabriquer un produit W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enclature arborescente complète du produit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80000" y="430200"/>
            <a:ext cx="8956800" cy="3259080"/>
            <a:chOff x="180000" y="430200"/>
            <a:chExt cx="8956800" cy="3259080"/>
          </a:xfrm>
        </p:grpSpPr>
        <p:sp>
          <p:nvSpPr>
            <p:cNvPr id="143" name=""/>
            <p:cNvSpPr/>
            <p:nvPr/>
          </p:nvSpPr>
          <p:spPr>
            <a:xfrm>
              <a:off x="4081320" y="430200"/>
              <a:ext cx="68580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63880" y="976320"/>
              <a:ext cx="4611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M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00840" y="965160"/>
              <a:ext cx="4611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M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20080" y="950760"/>
              <a:ext cx="4611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M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4440" y="1384200"/>
              <a:ext cx="5450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SM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81280" y="1395360"/>
              <a:ext cx="5839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SM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92560" y="1396800"/>
              <a:ext cx="5857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SM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10040" y="1396800"/>
              <a:ext cx="598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SM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66960" y="2031840"/>
              <a:ext cx="4399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P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36560" y="2031840"/>
              <a:ext cx="4399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P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09760" y="2031840"/>
              <a:ext cx="4399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10800" y="1396800"/>
              <a:ext cx="5450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SM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4920" y="1398600"/>
              <a:ext cx="5450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SM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8240" y="2022480"/>
              <a:ext cx="4399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P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5240" y="2022480"/>
              <a:ext cx="4399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P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60160" y="2022480"/>
              <a:ext cx="4399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 P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53880" y="2022480"/>
              <a:ext cx="4399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48160" y="1993680"/>
              <a:ext cx="4399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 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10240" y="1995480"/>
              <a:ext cx="4651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P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80000" y="2495520"/>
              <a:ext cx="557640" cy="1187640"/>
              <a:chOff x="180000" y="2495520"/>
              <a:chExt cx="557640" cy="1187640"/>
            </a:xfrm>
          </p:grpSpPr>
          <p:sp>
            <p:nvSpPr>
              <p:cNvPr id="163" name=""/>
              <p:cNvSpPr/>
              <p:nvPr/>
            </p:nvSpPr>
            <p:spPr>
              <a:xfrm>
                <a:off x="191160" y="249552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 MP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2600" y="298440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MP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80000" y="343692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 M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790920" y="2501640"/>
              <a:ext cx="558000" cy="1187640"/>
              <a:chOff x="790920" y="2501640"/>
              <a:chExt cx="558000" cy="1187640"/>
            </a:xfrm>
          </p:grpSpPr>
          <p:sp>
            <p:nvSpPr>
              <p:cNvPr id="167" name=""/>
              <p:cNvSpPr/>
              <p:nvPr/>
            </p:nvSpPr>
            <p:spPr>
              <a:xfrm>
                <a:off x="802080" y="250164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MP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03880" y="299088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 MP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0920" y="344304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 M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111760" y="2496960"/>
              <a:ext cx="558000" cy="1187640"/>
              <a:chOff x="2111760" y="2496960"/>
              <a:chExt cx="558000" cy="1187640"/>
            </a:xfrm>
          </p:grpSpPr>
          <p:sp>
            <p:nvSpPr>
              <p:cNvPr id="171" name=""/>
              <p:cNvSpPr/>
              <p:nvPr/>
            </p:nvSpPr>
            <p:spPr>
              <a:xfrm>
                <a:off x="2122920" y="249696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 MP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124720" y="298620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MP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111760" y="343836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 M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425960" y="2500200"/>
              <a:ext cx="557640" cy="1187640"/>
              <a:chOff x="1425960" y="2500200"/>
              <a:chExt cx="557640" cy="1187640"/>
            </a:xfrm>
          </p:grpSpPr>
          <p:sp>
            <p:nvSpPr>
              <p:cNvPr id="175" name=""/>
              <p:cNvSpPr/>
              <p:nvPr/>
            </p:nvSpPr>
            <p:spPr>
              <a:xfrm>
                <a:off x="1437120" y="250020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 MP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38560" y="298908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MP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425960" y="344160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 M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740680" y="2485800"/>
              <a:ext cx="557640" cy="1187640"/>
              <a:chOff x="2740680" y="2485800"/>
              <a:chExt cx="557640" cy="1187640"/>
            </a:xfrm>
          </p:grpSpPr>
          <p:sp>
            <p:nvSpPr>
              <p:cNvPr id="179" name=""/>
              <p:cNvSpPr/>
              <p:nvPr/>
            </p:nvSpPr>
            <p:spPr>
              <a:xfrm>
                <a:off x="2751840" y="248580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 MP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53280" y="297468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MP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40680" y="342720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 M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389760" y="2492280"/>
              <a:ext cx="558000" cy="1187640"/>
              <a:chOff x="3389760" y="2492280"/>
              <a:chExt cx="558000" cy="1187640"/>
            </a:xfrm>
          </p:grpSpPr>
          <p:sp>
            <p:nvSpPr>
              <p:cNvPr id="183" name=""/>
              <p:cNvSpPr/>
              <p:nvPr/>
            </p:nvSpPr>
            <p:spPr>
              <a:xfrm>
                <a:off x="3400920" y="249228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MP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02720" y="298152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 MP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89760" y="343368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 M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48560" y="2475000"/>
              <a:ext cx="558000" cy="1187280"/>
              <a:chOff x="4048560" y="2475000"/>
              <a:chExt cx="558000" cy="1187280"/>
            </a:xfrm>
          </p:grpSpPr>
          <p:sp>
            <p:nvSpPr>
              <p:cNvPr id="187" name=""/>
              <p:cNvSpPr/>
              <p:nvPr/>
            </p:nvSpPr>
            <p:spPr>
              <a:xfrm>
                <a:off x="4059720" y="247500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 MP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61520" y="296388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MP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048560" y="341604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 M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690080" y="2465280"/>
              <a:ext cx="557280" cy="1187640"/>
              <a:chOff x="4690080" y="2465280"/>
              <a:chExt cx="557280" cy="1187640"/>
            </a:xfrm>
          </p:grpSpPr>
          <p:sp>
            <p:nvSpPr>
              <p:cNvPr id="191" name=""/>
              <p:cNvSpPr/>
              <p:nvPr/>
            </p:nvSpPr>
            <p:spPr>
              <a:xfrm>
                <a:off x="4700520" y="246528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MP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02320" y="295452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 MP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90080" y="340668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 M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308920" y="2475000"/>
              <a:ext cx="558000" cy="1187280"/>
              <a:chOff x="5308920" y="2475000"/>
              <a:chExt cx="558000" cy="1187280"/>
            </a:xfrm>
          </p:grpSpPr>
          <p:sp>
            <p:nvSpPr>
              <p:cNvPr id="195" name=""/>
              <p:cNvSpPr/>
              <p:nvPr/>
            </p:nvSpPr>
            <p:spPr>
              <a:xfrm>
                <a:off x="5320080" y="247500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 MP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21880" y="296388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MP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308920" y="341604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 M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0240" y="1962000"/>
              <a:ext cx="4399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P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49840" y="1962000"/>
              <a:ext cx="4399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P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936040" y="2460600"/>
              <a:ext cx="557640" cy="1187640"/>
              <a:chOff x="5936040" y="2460600"/>
              <a:chExt cx="557640" cy="1187640"/>
            </a:xfrm>
          </p:grpSpPr>
          <p:sp>
            <p:nvSpPr>
              <p:cNvPr id="201" name=""/>
              <p:cNvSpPr/>
              <p:nvPr/>
            </p:nvSpPr>
            <p:spPr>
              <a:xfrm>
                <a:off x="5947200" y="246060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 MP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948640" y="294948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MP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936040" y="340200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 M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6545880" y="2440080"/>
              <a:ext cx="557280" cy="1187280"/>
              <a:chOff x="6545880" y="2440080"/>
              <a:chExt cx="557280" cy="1187280"/>
            </a:xfrm>
          </p:grpSpPr>
          <p:sp>
            <p:nvSpPr>
              <p:cNvPr id="205" name=""/>
              <p:cNvSpPr/>
              <p:nvPr/>
            </p:nvSpPr>
            <p:spPr>
              <a:xfrm>
                <a:off x="6556320" y="244008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MP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558120" y="292896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 MP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545880" y="338112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 M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7297560" y="1969920"/>
              <a:ext cx="4399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P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7520" y="1969920"/>
              <a:ext cx="4399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P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640360" y="1969920"/>
              <a:ext cx="4399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7271280" y="2423880"/>
              <a:ext cx="557640" cy="1187640"/>
              <a:chOff x="7271280" y="2423880"/>
              <a:chExt cx="557640" cy="1187640"/>
            </a:xfrm>
          </p:grpSpPr>
          <p:sp>
            <p:nvSpPr>
              <p:cNvPr id="212" name=""/>
              <p:cNvSpPr/>
              <p:nvPr/>
            </p:nvSpPr>
            <p:spPr>
              <a:xfrm>
                <a:off x="7282440" y="242388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 MP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283880" y="291276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MP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71280" y="336528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 M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920360" y="2430360"/>
              <a:ext cx="558000" cy="1187640"/>
              <a:chOff x="7920360" y="2430360"/>
              <a:chExt cx="558000" cy="1187640"/>
            </a:xfrm>
          </p:grpSpPr>
          <p:sp>
            <p:nvSpPr>
              <p:cNvPr id="216" name=""/>
              <p:cNvSpPr/>
              <p:nvPr/>
            </p:nvSpPr>
            <p:spPr>
              <a:xfrm>
                <a:off x="7931520" y="243036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MP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933320" y="291960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 MP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920360" y="337176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 M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8579520" y="2413080"/>
              <a:ext cx="557280" cy="1187280"/>
              <a:chOff x="8579520" y="2413080"/>
              <a:chExt cx="557280" cy="1187280"/>
            </a:xfrm>
          </p:grpSpPr>
          <p:sp>
            <p:nvSpPr>
              <p:cNvPr id="220" name=""/>
              <p:cNvSpPr/>
              <p:nvPr/>
            </p:nvSpPr>
            <p:spPr>
              <a:xfrm>
                <a:off x="8589960" y="241308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 MP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591760" y="290196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MP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579520" y="3354120"/>
                <a:ext cx="545040" cy="24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 M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V="1">
              <a:off x="1630440" y="676080"/>
              <a:ext cx="243828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70360" y="676080"/>
              <a:ext cx="233208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13240" y="6904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89040" y="1218960"/>
              <a:ext cx="45072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0440" y="1218960"/>
              <a:ext cx="4633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23360" y="1644480"/>
              <a:ext cx="17316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5200" y="1617480"/>
              <a:ext cx="15840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669680" y="1644480"/>
              <a:ext cx="23796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12920" y="1657440"/>
              <a:ext cx="185760" cy="3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968560" y="1657440"/>
              <a:ext cx="60984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91000" y="16444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91000" y="1657440"/>
              <a:ext cx="64908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929120" y="1657440"/>
              <a:ext cx="23976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73640" y="1644480"/>
              <a:ext cx="25236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591000" y="1206360"/>
              <a:ext cx="59688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64160" y="1206360"/>
              <a:ext cx="55728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559560" y="1193760"/>
              <a:ext cx="54288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80160" y="1193760"/>
              <a:ext cx="57024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187680" y="1657440"/>
              <a:ext cx="252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38760" y="1657440"/>
              <a:ext cx="1587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513200" y="1644480"/>
              <a:ext cx="490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50400" y="1644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8760" y="1644480"/>
              <a:ext cx="4777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95360" y="3736800"/>
            <a:ext cx="7586640" cy="1035360"/>
            <a:chOff x="495360" y="3736800"/>
            <a:chExt cx="7586640" cy="103536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495360" y="3736800"/>
              <a:ext cx="2476440" cy="10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4160880" y="3863880"/>
              <a:ext cx="113832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3"/>
            <a:stretch/>
          </p:blipFill>
          <p:spPr>
            <a:xfrm>
              <a:off x="6465960" y="3838680"/>
              <a:ext cx="1616040" cy="8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420720" y="41292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93120" y="412920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06520" y="4782960"/>
            <a:ext cx="7589880" cy="854280"/>
            <a:chOff x="506520" y="4782960"/>
            <a:chExt cx="7589880" cy="854280"/>
          </a:xfrm>
        </p:grpSpPr>
        <p:pic>
          <p:nvPicPr>
            <p:cNvPr id="253" name="" descr=""/>
            <p:cNvPicPr/>
            <p:nvPr/>
          </p:nvPicPr>
          <p:blipFill>
            <a:blip r:embed="rId4"/>
            <a:stretch/>
          </p:blipFill>
          <p:spPr>
            <a:xfrm>
              <a:off x="506520" y="4805280"/>
              <a:ext cx="313344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5"/>
            <a:stretch/>
          </p:blipFill>
          <p:spPr>
            <a:xfrm>
              <a:off x="4162320" y="4782960"/>
              <a:ext cx="143028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6"/>
            <a:stretch/>
          </p:blipFill>
          <p:spPr>
            <a:xfrm>
              <a:off x="6480000" y="4799160"/>
              <a:ext cx="1616400" cy="63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717720" y="504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77000" y="499428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09760" y="5667480"/>
            <a:ext cx="7573680" cy="831600"/>
            <a:chOff x="509760" y="5667480"/>
            <a:chExt cx="7573680" cy="831600"/>
          </a:xfrm>
        </p:grpSpPr>
        <p:pic>
          <p:nvPicPr>
            <p:cNvPr id="259" name="" descr=""/>
            <p:cNvPicPr/>
            <p:nvPr/>
          </p:nvPicPr>
          <p:blipFill>
            <a:blip r:embed="rId7"/>
            <a:stretch/>
          </p:blipFill>
          <p:spPr>
            <a:xfrm>
              <a:off x="509760" y="5667480"/>
              <a:ext cx="321912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8"/>
            <a:stretch/>
          </p:blipFill>
          <p:spPr>
            <a:xfrm>
              <a:off x="4181400" y="5678640"/>
              <a:ext cx="161604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9"/>
            <a:stretch/>
          </p:blipFill>
          <p:spPr>
            <a:xfrm>
              <a:off x="6467400" y="5688000"/>
              <a:ext cx="161604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760560" y="58723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34240" y="580716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8960" y="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lonnement de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7080" y="3414600"/>
            <a:ext cx="865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l'instant nous avons raisonné en capacité infinie et nous ne nous sommes p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occupés de savoir si les ateliers disposaient des capacités suffisantes p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aliser chacun des OF dans les quantités et délais souhait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exemple, est-il possible de réaliser, sur les journées des 09,12 et 13 Novemb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'usinage des MPi pour fabriquer les pièces Pi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tte question renvoie à la capacité de production des ateli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671400"/>
            <a:ext cx="888840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e de calcul matriciel dan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912960"/>
            <a:ext cx="91440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ude de cas W, X, Y, 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 de cas W, X, Y,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8480" y="1773360"/>
            <a:ext cx="8978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SMI sont toujours lancés en fabrication par lots de 10 unit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1) Calcul des besoins en approvisionnements en MPI sans stocks de dé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bien faut-il au total de MP1, MP2 et MP3 pour pouvoir fabriquer les quant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 commande des 4 produits W, X, Y, Z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2) Calcul des besoins en approvisionnements en MPI avec stocks de dé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at des stocks de dé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3) En supposant que les délais des fournisseurs de MPI soient de 2 jours, 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lles dates faut-il passer commande de ces matières premières p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pecter les délais de livraison des produits finis W, X, Y, Z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se servir du planning de jalonnement des OF établi ci-dess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09:36:17Z</dcterms:created>
  <dc:creator>DORIOT</dc:creator>
  <dc:description/>
  <dc:language>en-US</dc:language>
  <cp:lastModifiedBy>DORIOT</cp:lastModifiedBy>
  <dcterms:modified xsi:type="dcterms:W3CDTF">2008-08-13T13:52:05Z</dcterms:modified>
  <cp:revision>3</cp:revision>
  <dc:subject/>
  <dc:title>Diapositive 1</dc:title>
</cp:coreProperties>
</file>