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6BA-49C8-45EE-840D-408AE7E3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817-0E40-47F7-AFC5-1DAEBD5F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63C-CB39-4DCA-B4B8-9A36B264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13E-0261-4DF8-914C-0EDA75D9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054-71EC-43E4-A95D-573D5481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68D-0BA6-489F-BDCA-6790FD05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45A-E6B0-4D2B-B8D7-2E8F65F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52E-262F-4E1A-ADE5-6737D86E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87F-98C4-4BBB-8AD9-1AD7AE42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60F-AB0D-4EC2-AFDB-64BB0E52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5B0-8373-4756-BBAA-979C6E8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92D-9409-46AC-8AB2-BB6EA65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79EA-73F9-4E50-963D-F35A77E09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rganisation et Fonctionnement de l'Entrepris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Séance N°3)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"Rentabiliser l'investissement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ycle de vie prod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23680" y="3387600"/>
            <a:ext cx="7508520" cy="3186000"/>
            <a:chOff x="823680" y="3387600"/>
            <a:chExt cx="7508520" cy="3186000"/>
          </a:xfrm>
        </p:grpSpPr>
        <p:sp>
          <p:nvSpPr>
            <p:cNvPr id="44" name=""/>
            <p:cNvSpPr/>
            <p:nvPr/>
          </p:nvSpPr>
          <p:spPr>
            <a:xfrm>
              <a:off x="2050920" y="3481560"/>
              <a:ext cx="0" cy="26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50920" y="4849920"/>
              <a:ext cx="547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50920" y="4849920"/>
              <a:ext cx="6480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2698920" y="5281200"/>
              <a:ext cx="647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346560" y="4128840"/>
              <a:ext cx="720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067280" y="3625920"/>
              <a:ext cx="187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938920" y="3481200"/>
              <a:ext cx="1154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65800" y="4633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3680" y="3387600"/>
              <a:ext cx="11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sh-f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mu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6360" y="5931000"/>
              <a:ext cx="16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F : Besoin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50920" y="60022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35280" y="48499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53440" y="463248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m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61640" y="479880"/>
            <a:ext cx="8572680" cy="5757480"/>
            <a:chOff x="161640" y="479880"/>
            <a:chExt cx="8572680" cy="5757480"/>
          </a:xfrm>
        </p:grpSpPr>
        <p:grpSp>
          <p:nvGrpSpPr>
            <p:cNvPr id="58" name=""/>
            <p:cNvGrpSpPr/>
            <p:nvPr/>
          </p:nvGrpSpPr>
          <p:grpSpPr>
            <a:xfrm>
              <a:off x="1836720" y="479880"/>
              <a:ext cx="6897600" cy="5757480"/>
              <a:chOff x="1836720" y="479880"/>
              <a:chExt cx="6897600" cy="5757480"/>
            </a:xfrm>
          </p:grpSpPr>
          <p:sp>
            <p:nvSpPr>
              <p:cNvPr id="59" name=""/>
              <p:cNvSpPr/>
              <p:nvPr/>
            </p:nvSpPr>
            <p:spPr>
              <a:xfrm>
                <a:off x="2700360" y="857160"/>
                <a:ext cx="0" cy="53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35400" y="895320"/>
                <a:ext cx="12600" cy="534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068720" y="907920"/>
                <a:ext cx="0" cy="532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940360" y="907920"/>
                <a:ext cx="0" cy="525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093080" y="907920"/>
                <a:ext cx="0" cy="525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1836720" y="479880"/>
                <a:ext cx="6897600" cy="3173040"/>
                <a:chOff x="1836720" y="479880"/>
                <a:chExt cx="6897600" cy="31730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197080" y="1711440"/>
                  <a:ext cx="4896000" cy="1644480"/>
                </a:xfrm>
                <a:custGeom>
                  <a:avLst/>
                  <a:gdLst/>
                  <a:ahLst/>
                  <a:rect l="l" t="t" r="r" b="b"/>
                  <a:pathLst>
                    <a:path w="3084" h="1036">
                      <a:moveTo>
                        <a:pt x="0" y="1036"/>
                      </a:moveTo>
                      <a:cubicBezTo>
                        <a:pt x="87" y="1032"/>
                        <a:pt x="174" y="1029"/>
                        <a:pt x="272" y="991"/>
                      </a:cubicBezTo>
                      <a:cubicBezTo>
                        <a:pt x="370" y="953"/>
                        <a:pt x="476" y="916"/>
                        <a:pt x="589" y="810"/>
                      </a:cubicBezTo>
                      <a:cubicBezTo>
                        <a:pt x="702" y="704"/>
                        <a:pt x="831" y="477"/>
                        <a:pt x="952" y="356"/>
                      </a:cubicBezTo>
                      <a:cubicBezTo>
                        <a:pt x="1073" y="235"/>
                        <a:pt x="1126" y="137"/>
                        <a:pt x="1315" y="84"/>
                      </a:cubicBezTo>
                      <a:cubicBezTo>
                        <a:pt x="1504" y="31"/>
                        <a:pt x="1874" y="0"/>
                        <a:pt x="2086" y="38"/>
                      </a:cubicBezTo>
                      <a:cubicBezTo>
                        <a:pt x="2298" y="76"/>
                        <a:pt x="2419" y="152"/>
                        <a:pt x="2585" y="311"/>
                      </a:cubicBezTo>
                      <a:cubicBezTo>
                        <a:pt x="2751" y="470"/>
                        <a:pt x="2917" y="730"/>
                        <a:pt x="3084" y="99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52720" y="3429000"/>
                  <a:ext cx="547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453440" y="3284640"/>
                  <a:ext cx="878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emp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6200000">
                  <a:off x="1072440" y="1981800"/>
                  <a:ext cx="21711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onception, Etud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éveloppe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16200000">
                  <a:off x="1688400" y="1564920"/>
                  <a:ext cx="2538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ancement commer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16200000">
                  <a:off x="3016080" y="1242720"/>
                  <a:ext cx="1320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roissa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431240" y="1268280"/>
                  <a:ext cx="1005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aturité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087600" y="1628640"/>
                  <a:ext cx="81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écl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075440" y="294480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o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11600" y="692280"/>
                  <a:ext cx="14227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ourbe des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entes en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uantité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5148360" y="1197000"/>
                  <a:ext cx="230328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" name=""/>
            <p:cNvSpPr/>
            <p:nvPr/>
          </p:nvSpPr>
          <p:spPr>
            <a:xfrm>
              <a:off x="161640" y="1266840"/>
              <a:ext cx="153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estiss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96880" y="1655640"/>
              <a:ext cx="371520" cy="4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'est ce que l'investisseme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0280" y="762120"/>
            <a:ext cx="833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 existe de multiples façons de définir ce qu'est un investissement. Nous utiliserons une formule génér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Ce sont toutes les sorties de fonds de l'entreprise susceptibles de permettre l'apparition de revenus ou d'économies ultérieu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73920" y="2560680"/>
            <a:ext cx="36583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 qui définit l'investissement, c'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ins son domaine d'application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 nature fondamentale de sacrif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'avantages immédiats en 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'obtenir des avantages ultéri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s import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e titre, l'opération d'investis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en je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'incertitude (le risqu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isque ses résultats ne sont jam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ains, mais aussi 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uis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 résultats se situent dans le fu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5440" y="1884240"/>
            <a:ext cx="44953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emple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nvestissements financ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hats de titr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a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ses de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nvestissements commerci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 d'un réseau de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udes de march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penses publicitaires ou promotion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nvestissement en pers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nvestissement en é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dget de développement d'un nouveau prod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nvestissement industr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se en place d'une nouvelle us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hat d'un équipement,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97360" y="2252520"/>
            <a:ext cx="258840" cy="3632400"/>
          </a:xfrm>
          <a:custGeom>
            <a:avLst/>
            <a:gdLst>
              <a:gd name="textAreaLeft" fmla="*/ 0 w 258840"/>
              <a:gd name="textAreaRight" fmla="*/ 93600 w 258840"/>
              <a:gd name="textAreaTop" fmla="*/ 94680 h 3632400"/>
              <a:gd name="textAreaBottom" fmla="*/ 3537720 h 363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té de l'investis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4800" y="403200"/>
            <a:ext cx="80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"Payback period"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nécessaire pour récupérer l'investissement de départ par 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h-flow cumulé dégagé lors de l'exploitation du prod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091640" cy="3646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403280" y="981000"/>
            <a:ext cx="6048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ise en compte du temps : l'act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6080" y="617400"/>
            <a:ext cx="87516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l'utilisation du critère "payback period", il n'est pas tenu compte de la répartition des fl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le temps qui précède l'atteinte de la date qui équilibre la somme des flux négatifs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lle des flux positifs. Il n'est pas non plus tenu compte du fait qu'un euro d'aujourd'hui n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la même valeur qu'un euro de demain compte tenu du fait que l'€ d'aujourd'hui peut 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acé à un taux d'intérêt i qui fait progresser sa valeur. Pour tenir compte de ce phénomè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faut rendre actuelles les valeurs futures. C'est le mécanisme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'actua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qui per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calculer la VAN (Valeur Actuelle Net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VAN d'un investissement se définit comme la somme des cash-flow actualisés générés 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t investissement tout au long de sa durée de 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CFt est le cash-flow prévu à l'année t, évalué par la différence entre les recettes et 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penses d'exploitation de l'année t, pour un taux d'actualisation constant i et une durée de v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n années, on a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28840" y="3567240"/>
            <a:ext cx="211320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5320" y="4498920"/>
            <a:ext cx="8847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s les cas les plus simples, la succession des cash-flow présentera tout d'abord une dép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'investissement C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uis des flux positifs résultant d'une exploitation bénéficiai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VAN se présentera alors sous la form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32280" y="5370480"/>
            <a:ext cx="298908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020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N et Taux d'act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31840" y="689040"/>
            <a:ext cx="6772320" cy="14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9440" y="2190600"/>
            <a:ext cx="876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tableau ci-dessus donne la VAN d'un investissement pour i = 8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faisant varier i, on obtient évidemment des valeurs de VAN différentes qui diminuent lor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 augmente puisque l'investissement de départ CF° ne change pas alors que la somme CF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minue. Ainsi par exemple, dans une plage 5% &lt; i &lt; 50%, on obtient les VAN suiv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1120" y="3348000"/>
            <a:ext cx="1224000" cy="174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665360" y="3348000"/>
            <a:ext cx="53514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5349960" y="4081320"/>
            <a:ext cx="3789000" cy="1322640"/>
            <a:chOff x="5349960" y="4081320"/>
            <a:chExt cx="3789000" cy="1322640"/>
          </a:xfrm>
        </p:grpSpPr>
        <p:sp>
          <p:nvSpPr>
            <p:cNvPr id="98" name=""/>
            <p:cNvSpPr/>
            <p:nvPr/>
          </p:nvSpPr>
          <p:spPr>
            <a:xfrm>
              <a:off x="6975360" y="4081320"/>
              <a:ext cx="2163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 remarquera que 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N s'annule p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e certaine vale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i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349960" y="4557600"/>
              <a:ext cx="1650960" cy="84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R : taux interne de rent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7680" y="668160"/>
            <a:ext cx="8227440" cy="28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TIR est précisément la valeur de i qui annule la VA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 existe dans EXCEL une fonction qui permet de le calculer : = TRI(valeurs;e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valeurs" est la suite des cellules contenant les C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 "estimation" est une valeur d'ori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ire du TIR qui permet de démarrer la suite des calculs effectués par EXC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s notre exemple le TIR est égal à 34,97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TIR a une signification économique très concrète : il indique le taux maximum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'entreprise pourrait supporter dans le cas où la totalité du capital serait emprunté p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er l'investiss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7:11:28Z</dcterms:created>
  <dc:creator>DORIOT</dc:creator>
  <dc:description/>
  <dc:language>en-US</dc:language>
  <cp:lastModifiedBy>DORIOT</cp:lastModifiedBy>
  <dcterms:modified xsi:type="dcterms:W3CDTF">2008-08-12T09:19:14Z</dcterms:modified>
  <cp:revision>4</cp:revision>
  <dc:subject/>
  <dc:title>Organisation et Fonctionnement de l'Entreprise  (Séance N°3)  "Rentabiliser l'investissement"</dc:title>
</cp:coreProperties>
</file>