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B8C-7CC1-42D2-894A-B02E3716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9A3-A6F3-4F0D-9A1D-2429FCE1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318-F2B3-4256-B041-2CB26EC1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B9A-583E-4A07-94C2-77451710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5FA-D24E-474D-911B-DA6E324F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B09-37C7-4344-8F7E-A051202E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F1F-8412-4037-8B57-A262B61C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205-B50C-4EA8-A218-F7F86CF8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6A8-F7A8-40A2-B822-669A8A08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C5E-7C27-48BE-8811-D6253E16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F32-4922-4F74-B00F-949D60B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AAD-A850-416C-B37C-92C393F5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DBFA-8AEF-4F59-A2C2-8401092FC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9120" y="457200"/>
            <a:ext cx="8916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HOMSON Multimédia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abrique un lecteur DVD dont la demande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pend notamment des variables prix (PV), publicité (PUB) 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motion sur le lieu de vente (PLV) et dont les 12 observations sont indiquées dans le tableau ci-desso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utes ces observations concernent une période de 6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143000"/>
            <a:ext cx="6019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1) Déterminer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'équation du modèl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onnant la demande en fo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 3 variables explicatives (PUB, PLV, PV).(utiliser DROITEREG d'EXC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2) La production de ce produit est organisée en 3 ateliers à travers lesq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sse successivement le produit pour subir des opérations de fabrication do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durées sont : atelier de mécanique : 15 minutes; atelier d’électronique : 30 minutes, atelier d’assemblage : 15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salaire moyen mensuel brut d’un opérateur est le même quel que soit l’ateli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à savoir 2.200 € brut par mois (attention, tenir compte en plus des charges soc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tronales = 50% des montants des salaires bru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temps théorique productif annuel moyen d’un opérateur est de 1800 heures. Chaque produit fabriqué consomme 70 € de compos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lculer l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ût direct de production CP d’un lecteur de DV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à l’aide de ces in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16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année ING : Examen 2009 en Organisation des Entreprises :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urée 2 he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360" y="3886200"/>
            <a:ext cx="90151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3) En utilisant l'équation du modèle déterminée à la question N°1 et en faisant varier le triplet des valeurs (PUB, PLV, P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lon les 12 combinaisons indiquées dans le tableau ci-dessus, repérez pour quelle valeur de demand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 MTC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(marge tot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coût de production après déduction des frais de PUB et de PLV)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st maximu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CP = (PV-CP) x Q - PUB - PLV ; Q = quantité demandée, produite et vendue (pas de stoc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 déduire la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binaison optimal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s valeurs des 3 variables explicatives PUB, PLV, P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diquez l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iffre d’affaires et la valeur de cette MTCP pour cette combinaison optimal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4) La direction du marketing décide, pour le semestre à venir, de fixer les valeurs de PUB, PLV et PV à celles qui ont ét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terminées à la question n°3 ce qui permet de prévoir le niveau de demande correspondante à satisfaire en 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lculer les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ffectifs nécessai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en nombre d’opérateurs par atelier pour réaliser cette production en un semestre en te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te d’un taux d’absentéisme du personnel de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ttention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: la justesse des résultats est cotée sur 12 points, la pertinence des raisonnements et des modèles utilisés pour chaq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question doit être commentée dans votre copie et elle est évaluée sur 8 points. Les PC et l’intégralité de vos cours sont autorisé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Le rendu de fin d’examen doit être une copie manusc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66832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igé du cas Thomson Multimédia (1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" y="685800"/>
            <a:ext cx="8402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1) L’équation du modèle donnant la demande en fonction des 3 variables explicatives PUB, PLV, PV peut être obt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 utilisant dans EXCEL la fonction « DROITEREG » ou le calcul matriciel pour la résolution d’un système de 3 é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à 3 inconnues sur la base de la méthode des moindres carr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16640" y="1557360"/>
            <a:ext cx="20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tilisation de DROITER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2560" y="213372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DROITEREG(B5:B16;C5:E16;;VRA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3160" y="4343400"/>
            <a:ext cx="846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2) Le taux horaire de production d’un opérateur est, quel que soit l’atelier : (2200 x 1,5 x 12) / 1800 h =22 € /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oût de la main d’œuvre de production pour produire un lecteur est donc d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elier mécanique : (15’ x 22) / 60 = 5,5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elier électronique : (30’ x 22) / 60 = 11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elier assemblage : (15’ x 22) / 60 = 5,5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it un coût de main d’œuvre  total de : 22 € auquel il faut additionner le coût des pièces achetées : 70 €, soit un coût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rect de production CP de 92 €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927520" cy="2925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67080" y="2590920"/>
            <a:ext cx="3627720" cy="85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657600" y="3733920"/>
            <a:ext cx="5257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igé du cas Thomson Multimédia (2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2320" y="609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280" y="3657600"/>
            <a:ext cx="321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 = 20.000 €; PLV : 60.000 €; PV = 13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CP = 1.192.637,75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 = 4.353.760,71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9480" y="4300560"/>
            <a:ext cx="811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4) La quantité à fabriquer dans le semestre sera donc de 33.490 lecteurs de DV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 semestre, chaque opérateur pourra produire pendant : 900 h x 90% = 810 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te tenu du temps de fabrication d’un lecteur DVD dans chaque atelier, le nombre d’opérateurs nécessaires es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elier mécanique : (33.490 x 15’) / (810 x 60’) = 10,34 soit 11 opérateu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elier électronique : 21 opéra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elier assemblage : 11 opérate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it un total de 43 opérate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5441760" cy="286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1320" y="5029200"/>
            <a:ext cx="2805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4:25:49Z</dcterms:created>
  <dc:creator>gd</dc:creator>
  <dc:description/>
  <dc:language>en-US</dc:language>
  <cp:lastModifiedBy>gd</cp:lastModifiedBy>
  <dcterms:modified xsi:type="dcterms:W3CDTF">2008-11-03T15:47:59Z</dcterms:modified>
  <cp:revision>13</cp:revision>
  <dc:subject/>
  <dc:title>Diapositive 1</dc:title>
</cp:coreProperties>
</file>