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050-F10F-48A8-AC06-2A7E8AFB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15E-15F6-49DB-9F18-368F354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84C-D643-47A1-989D-678BBD27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C2A-6877-4516-9F87-CBA48514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C98B-F2E9-4727-95F4-F270151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E66E-1A3B-4019-9B1A-7E8729BE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6D5-6F22-449B-B0D7-2F127466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0B0-A15E-4C4C-9CE3-BD74B7BD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798F-D262-4288-9ACC-B320ED6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4BE-9D60-4053-A036-85603A7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6195-6353-480C-A729-8B2DAC4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A7A-DC98-476F-86B1-6A22EFF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C9DD-5E39-486F-9FA7-22F7D65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AD2E-7CD1-48B4-BA71-2B2C2FE9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789-C238-439A-BB3E-A5A123C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AF3-8968-4EE9-BD71-84EE636E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3BB-03E3-44AD-94C2-89727A4D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DE6-9623-425E-82B6-F698C110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86D-69FD-44E2-BF55-B7CDAC2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0AF-D2BC-4D8C-A322-1350596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53A-C1E3-4ECC-AC6D-C322B61E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D86-D87E-4D90-B089-C30EECA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680-2107-4EBD-9F47-56E0654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4ED-9D24-4055-9E4E-3C74302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D900-3A4A-4E9C-BDE6-E16370A8797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7588-F41A-4046-A0BD-A9E44B481EA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hyperlink" Target="http://www.djangoproject.com/" TargetMode="External"/><Relationship Id="rId3" Type="http://schemas.openxmlformats.org/officeDocument/2006/relationships/hyperlink" Target="https://pypi.python.org/" TargetMode="External"/><Relationship Id="rId4" Type="http://schemas.openxmlformats.org/officeDocument/2006/relationships/hyperlink" Target="https://www.djangopackages.com/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apid Web Development with Python/Djang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Julian Hil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s (cont’d)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ault is to set NOT NULL on all fields.  Override by adding null = True to field definitio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ame = models.CharField(max_length=20, null = True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lationships defined through special field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s.OneToOneField(mode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s.ForeignKey(mode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s.ManyToManyField(mode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s (cont’)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eed Nulls in a Boolean Field?  Use models.NullBooleanField(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t Default value with “default”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unt = models.IntegerField(default = 0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a inner Meta class to define additional options, especially useful for abstract classes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lass TestModel(models.Model)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lass Meta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                    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bstract = True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 Method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.save(self, *args, **kwarg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.delete(self, *args, **kwarg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.get_absolute_url(self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.__str__(self) [Python 3]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.__unicode__(self) [Python 2]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ride with super(MODEL, self).save(*args, **kwargs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tivating a Mode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d the app to INSTALLED_APPS in settings.p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 manage.py validat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 manage.py syncd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gration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rite custom script or manually handle migrat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South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electing Objec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s include a default manager called objec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ager methods allow selecting all or some instances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Question.objects.all()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Question.objects.get(pk = 1)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Use try block, throws DoesNotExist exception if no match</a:t>
            </a:r>
            <a:br>
              <a:rPr sz="18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Question.objects.filter(created_date__lt = ‘2014-01-01’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turns QuerySe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rospecting Legacy Mode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age.py inspectd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ut and paste generated code into models.py – Easy!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ull Sample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django.db import models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datetime import datetim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lass TimestampedModel(models.Model)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created_datetime = models.DateTimeField(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updated_datetime = models.DateTimeField(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def save(self, *args, **kwargs)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if self.id is None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    self.created_datetime = datetime.now(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updated_datetime = datetime.now(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super(TimestampedModel,self).save(*args, **kwargs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class Meta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abstract = Tru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ull Sample (cont’d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Question(TimestampedModel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question_text = models.CharField(max_length = 200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 __str__(self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return self.question_tex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unction vs. Class View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 allows two styles of views – functions or class based view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s – take a request object as the first parameter and must return a response objec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based views – allow CRUD operations with minimal code.  Can inherit from multiple generic view classes (i.e. Mixin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ample – Viewing a List of Ques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 based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.models import Question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django.shortcuts import render_to_respons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 question_list(request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questions = Question.objects.all()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return render_to_response(‘question_list.html’, {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                                    ‘questions’:questions}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Pytho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ritten in C – high performance, ability to link to C libraries for extens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preted script language compiled on the fly into byteco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sier to read coding standards – whitespace sensi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bject Orient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ick CRUD Operations with Generic View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stVie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pdateVie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reateVie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Model is specified, automagically creates a matching ModelFo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m will save the Model if data passes valid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verride form_valid() method to provide custom logic (i.e sending email or setting additional field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ample – As Class Based 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.models import Question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django.views.generic import ListView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QuestionList(ListView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model = Question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context_object_name = ‘questions’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Templat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Very simple syntax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variables = {{variable_name}}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mplate tags = {%tag%}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exible – can be used to render html, text, csv, email, you name it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t notation – template engine attempts to resolve by looking for matching attributes, hashes and method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estion List Template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444680"/>
            <a:ext cx="804204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!doctype html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html lang=en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head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meta charset=utf-8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title&gt;List of Questions&lt;/title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/head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body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if questions%}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ul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for q in questions%}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li&gt;{{q.question_text}}&lt;/li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endfor%}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/ul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else%}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p&gt;No questions have been defined&lt;/p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endif%}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/body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/html&gt;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urls.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efines routes to send urls to various view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an use regular express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tract parameters from a url and pass to the view as a named parameter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(‘^question/(?P&lt;question_id&gt;\d+)/$’,’views.question_detail’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tensible – urls.py can include additional url files from apps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r(‘^question/’,include(question.urls)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oking up the Question Li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rom django.conf.urls import patterns, url, includ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rlpatterns = patterns(‘’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(r’^questions/$’,’views.QuestionList’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OR: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rom django.conf.urls import patterns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rom views import QuestionListView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   urlpatterns = patterns(‘’,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       (r’^questions/$’,’views.QuestionList.as_view()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orms in Djang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.forms provides a class to build HTML forms and validation.  Exampl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django import for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EditQuestionForm(forms.Form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question_text = forms.CharField(max_length = 200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ften redundant when creating forms that work on a single mod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Form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utomatically generate a form from a mode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ndles saving a bound mode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an specify fields to be included or excluded in the for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ample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django.forms import ModelForm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.models import Questi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lass QuestionForm(ModelForm)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class Meta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model = Question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    fields = [‘question_text’]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Using a ModelFor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eate an instance of an empty form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orm = QuestionForm(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eate a form to update an existing instance of a model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question = Question.objects.get(pk = 1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form = QuestionForm(instance = question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ss the form into the template and use the form methods to render the form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form.as_p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form.as_ul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form.&lt;field_name&gt;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form.&lt;field_name&gt;.error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quest &amp; Respon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quest object encapsulate the request and provide access to a number of attributes and methods for accessing cookies, sessions, the logged in user object, meta data (i.e environment variables),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sponse objects are returned to the browser.  Can set content type, content length,  response does not have to return HTML or a rendered template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pecial response types allow for common functionality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ttpResponeRedirect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ttp404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ttpStreamingRespons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 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roducing…Djang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framework for perfectionists with deadlines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VC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exible template language that can be used to generate HTML, CSV, Email or any other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ludes ORM that supports many databases – Postgresql, MySQL, Oracle, SQLi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ts of extras included – middleware, csrf protections, sessions, caching, authent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Extra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SF Middleware – enabled by default.  Include template tag in all forms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{%csrf_token%}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uthentic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ach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ss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ssag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mai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ogg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uthentic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’s out of the box Auth system uses database authent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anged extensively in Django 1.6 to allow custom User objec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UTHENTICATION_BACKENDS setting in settings.py allows overriding how User objects are authenticat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using the Authentication middleware and context_processors the current user is available to code as request.user and {{user}} is defined in all templ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uth Decora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ive in django.contrib.auth.decorator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ogin_required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@login_required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ef function_view(request)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…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r_passes_test (can be used with lambda functions for real power) –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@user_passes_test(lambda u: u.is_staff)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ef function_view(request):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…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s_perms – test for user permiss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corating CBV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orator is applied to the dispatch metho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t be converted to a method_decorator – use django.utils.decorators.method_decorator functio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MyView(ListView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@method_decorator(login_required)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def dispatch(self, *args, **kwargs)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super(MyView,self).dispatch(*args, **kwargs)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ustom Auth Backend for the Bubb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0" name="Picture 5" descr="https   bmi.cchmc.org svn i2b2 i2b2 bmidev python patient-activation trunk pat patient backends.py.png"/>
          <p:cNvPicPr/>
          <p:nvPr/>
        </p:nvPicPr>
        <p:blipFill>
          <a:blip r:embed="rId1"/>
          <a:srcRect l="0" t="2486" r="55843" b="43382"/>
          <a:stretch/>
        </p:blipFill>
        <p:spPr>
          <a:xfrm>
            <a:off x="944640" y="1579680"/>
            <a:ext cx="72943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ending Emai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.core.mail includes functions and classes for handling emai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t EMAIL_HOST in settings.py to outgoing mailserv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ort send_mail for simple mail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nd_mail(subject, message, from, to_email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 django.template.render_to_string to format a message using a templ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 EmailMultiAlternatives to create a text message and attach a html version as well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sour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ython –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http://www.python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 –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http://www.djangoproject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ython Packages –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https://pypi.python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 Packages –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4"/>
              </a:rPr>
              <a:t>https://www.djangopackages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 &amp; 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Concepts/Best Practi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RY Principle – “Don’t Repeat Yourself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t models, thin view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Keep logic in templates to a minimu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 small, reusable “apps” (app = python module with models, views, templates, tes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Project Layou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jango-admin.py startproject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PROJECT_ROOT&gt;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nage.p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&lt;PROJECT_DIR&gt;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__init__.p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ttings.p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rls.p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sgi.py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ettings.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es settings used by a Django appl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ferenced by wsgi.py to bootstrap the project load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chniques for managing dev vs prod setting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eate settings-dev.py and settings-prod.py and use symlink to link settings.py to the correct setting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actor out common settings into base-settings.py and import. Use conditionals to load correct settings based on DEBUG or other sett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ample Settings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5080" y="975960"/>
            <a:ext cx="82659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DEBUG = Tru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TEMPLATE_DEBUG = Tru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ALLOWED_HOSTS = []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# Application definition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INSTALLED_APPS = (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admin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auth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contenttypes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sessions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messages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'django.contrib.staticfiles',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App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usable mod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jango-admin.py startapp &lt;app_name&gt;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reates stub layout: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&lt;APP_ROOT&gt;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min.py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s.py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mplates (directory)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sts.py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views.py</a:t>
            </a:r>
            <a:br>
              <a:rPr sz="2400"/>
            </a:b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rls.py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jango Mode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ed in models.p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ypically inherit from django.db.models.Mod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 Model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django.db import mod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ass TestModel(models.Model)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me = models.CharField(max_length = 20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e = models.IntegerField(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4:51:32Z</dcterms:created>
  <dc:creator>CCHMC</dc:creator>
  <dc:description/>
  <dc:language>en-US</dc:language>
  <cp:lastModifiedBy>Tahar</cp:lastModifiedBy>
  <dcterms:modified xsi:type="dcterms:W3CDTF">2016-11-29T02:40:37Z</dcterms:modified>
  <cp:revision>42</cp:revision>
  <dc:subject/>
  <dc:title>PowerPoint Presentation</dc:title>
</cp:coreProperties>
</file>